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F387-C971-4966-A1B6-4D5C1B1E9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0426-ADB7-47C9-B3C8-648916BA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ED13-0E81-4762-8787-2383B8167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42F0-716B-4E04-8612-268F7711E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BF55-592B-4A30-9922-158FFF15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ED2C-C926-437F-826C-6C94D0EC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0EAC-F753-494B-87FF-59ED8D1F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53D4-123F-4E1B-BD3B-36B5EE3C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8839-C3D9-4180-83AE-93079CA3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5358-C384-42AA-8603-D729BE22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EC40-83C3-4F78-8398-12B6B3D1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F134-415C-49DC-9A7E-50E9ACD0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68E9-E125-469D-AE7A-8857D9BCD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00"/>
                </a:solidFill>
                <a:latin typeface="Arial"/>
              </a:rPr>
              <a:t>Me llamo _______ Clase 6NH (602)</a:t>
            </a:r>
            <a:br>
              <a:rPr sz="3800"/>
            </a:br>
            <a:r>
              <a:rPr b="0" lang="en-US" sz="3800" spc="-1" strike="noStrike">
                <a:solidFill>
                  <a:srgbClr val="99cc00"/>
                </a:solidFill>
                <a:latin typeface="Arial"/>
              </a:rPr>
              <a:t>La fecha es el 14 de enero del 20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posito # 31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e son verbos de cambio radic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3429000"/>
            <a:ext cx="2514600" cy="1884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90920" y="2666880"/>
            <a:ext cx="2743200" cy="1246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257800" y="2639880"/>
            <a:ext cx="2057400" cy="162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412040" y="2057400"/>
            <a:ext cx="1655640" cy="2209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2895480" y="4419720"/>
            <a:ext cx="2057400" cy="1541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5715000" y="5334120"/>
            <a:ext cx="17524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Repaso de los verbos REGUL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juga los siguientes verb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1143000"/>
          <a:ext cx="9067680" cy="5043600"/>
        </p:xfrm>
        <a:graphic>
          <a:graphicData uri="http://schemas.openxmlformats.org/drawingml/2006/table">
            <a:tbl>
              <a:tblPr/>
              <a:tblGrid>
                <a:gridCol w="3354480"/>
                <a:gridCol w="5713200"/>
              </a:tblGrid>
              <a:tr h="753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                                </a:t>
                      </a: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Lanzar         </a:t>
                      </a: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Meter        </a:t>
                      </a: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ubr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 flipV="1">
            <a:off x="3352680" y="1142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19051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15200" y="19051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410080" y="1142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7315200" y="1142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Verbos de Cambio Radical E</a:t>
            </a:r>
            <a:r>
              <a:rPr b="0" lang="en-US" sz="4400" spc="-1" strike="noStrike">
                <a:solidFill>
                  <a:srgbClr val="ff0066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IE</a:t>
            </a:r>
            <a:br>
              <a:rPr sz="4000"/>
            </a:b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(stem-changing verbs 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en-US" sz="4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verbs in Spanish are called stem-changing verbs. When conjugated, these verbs don’t only change the ending, they also change the STEM or root;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EXCEP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pronouns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nosotr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vosotros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8600" y="3436920"/>
          <a:ext cx="8763120" cy="2582640"/>
        </p:xfrm>
        <a:graphic>
          <a:graphicData uri="http://schemas.openxmlformats.org/drawingml/2006/table">
            <a:tbl>
              <a:tblPr/>
              <a:tblGrid>
                <a:gridCol w="2743200"/>
                <a:gridCol w="601992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mp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</a:t>
                      </a: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z</a:t>
                      </a:r>
                      <a:r>
                        <a:rPr b="1" lang="en-US" sz="2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2971800" y="397656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mp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z</a:t>
            </a:r>
            <a:r>
              <a:rPr b="1" lang="es-ES_tradnl" sz="2800" spc="-1" strike="noStrike" u="sng">
                <a:solidFill>
                  <a:srgbClr val="333399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45100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mp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z</a:t>
            </a:r>
            <a:r>
              <a:rPr b="1" lang="es-ES_tradnl" sz="2800" spc="-1" strike="noStrike" u="sng">
                <a:solidFill>
                  <a:srgbClr val="333399"/>
                </a:solidFill>
                <a:uFillTx/>
                <a:latin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71800" y="51958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mp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z</a:t>
            </a:r>
            <a:r>
              <a:rPr b="1" lang="es-ES_tradnl" sz="2800" spc="-1" strike="noStrike" u="sng">
                <a:solidFill>
                  <a:srgbClr val="333399"/>
                </a:solidFill>
                <a:uFillTx/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397656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Empez</a:t>
            </a:r>
            <a:r>
              <a:rPr b="1" lang="es-ES_tradnl" sz="2800" spc="-1" strike="noStrike" u="sng">
                <a:solidFill>
                  <a:srgbClr val="008000"/>
                </a:solidFill>
                <a:uFillTx/>
                <a:latin typeface="Arial"/>
              </a:rPr>
              <a:t>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705720" y="451008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8000"/>
                </a:solidFill>
                <a:latin typeface="Arial"/>
              </a:rPr>
              <a:t>Empez</a:t>
            </a:r>
            <a:r>
              <a:rPr b="0" i="1" lang="es-ES_tradnl" sz="2800" spc="-1" strike="noStrike" u="sng">
                <a:solidFill>
                  <a:srgbClr val="008000"/>
                </a:solidFill>
                <a:uFillTx/>
                <a:latin typeface="Arial"/>
              </a:rPr>
              <a:t>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05720" y="519588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mp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z</a:t>
            </a:r>
            <a:r>
              <a:rPr b="1" lang="es-ES_tradnl" sz="2800" spc="-1" strike="noStrike" u="sng">
                <a:solidFill>
                  <a:srgbClr val="333399"/>
                </a:solidFill>
                <a:uFillTx/>
                <a:latin typeface="Arial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39625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05720" y="39625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038480"/>
            <a:ext cx="4648320" cy="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5943600"/>
            <a:ext cx="8763120" cy="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8600" y="4038480"/>
            <a:ext cx="0" cy="190512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876920" y="4038480"/>
            <a:ext cx="0" cy="99072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00600" y="5029200"/>
            <a:ext cx="4191120" cy="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8991720" y="5029200"/>
            <a:ext cx="0" cy="99072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6019920"/>
            <a:ext cx="4724280" cy="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095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se verbs are also called </a:t>
            </a:r>
            <a:r>
              <a:rPr b="1" lang="en-US" sz="2200" spc="-1" strike="noStrike">
                <a:solidFill>
                  <a:srgbClr val="cc0099"/>
                </a:solidFill>
                <a:latin typeface="Arial"/>
              </a:rPr>
              <a:t>BOO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verbs; you only change the stem of the verb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SID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he bo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76320" y="141768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ome examples of  stem-changing verb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Qu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er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(to want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 P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der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(to lose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ef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ir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(to prefer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These verbs are often followed by an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INFINI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rb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Verbos de Cambio Radical E</a:t>
            </a:r>
            <a:r>
              <a:rPr b="0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IE</a:t>
            </a:r>
            <a:br>
              <a:rPr sz="4000"/>
            </a:b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(stem-changing verbs 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en-US" sz="4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4280" y="4890960"/>
            <a:ext cx="391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llos pref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en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gan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9040" y="5500800"/>
            <a:ext cx="434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llos no qu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en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perd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96120" y="4876920"/>
            <a:ext cx="32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They prefer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cc0099"/>
                </a:solidFill>
                <a:latin typeface="Arial"/>
              </a:rPr>
              <a:t>to win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39840" y="5500800"/>
            <a:ext cx="404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They don’t want </a:t>
            </a:r>
            <a:r>
              <a:rPr b="0" i="1" lang="en-US" sz="2800" spc="-1" strike="noStrike">
                <a:solidFill>
                  <a:srgbClr val="cc0099"/>
                </a:solidFill>
                <a:latin typeface="Arial"/>
              </a:rPr>
              <a:t>to lose.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area # 3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gate the following verbs; remember the “stem-changing” rules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2 original sentences with each verb, make sure you use different pronouns or subjects. Get creative!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6 tot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9T20:11:16Z</dcterms:created>
  <dc:creator>Helen Zumaeta</dc:creator>
  <dc:description/>
  <dc:language>en-US</dc:language>
  <cp:lastModifiedBy>Helen Zumaeta</cp:lastModifiedBy>
  <dcterms:modified xsi:type="dcterms:W3CDTF">2013-01-14T20:37:12Z</dcterms:modified>
  <cp:revision>12</cp:revision>
  <dc:subject/>
  <dc:title>Me llamo _______ Clase 6NH La fecha es el 30 de mayo del 2012</dc:title>
</cp:coreProperties>
</file>